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FD531-025D-4CD0-A049-3FB78823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5D03C-B1EA-4D55-8C6A-F996F37F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AC981-9CFB-4AC4-B24B-EEB0D68E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7439E-81B8-44E9-823A-639252A4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87FD-B215-426D-AA11-E0B4B2DD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6EEC-BE69-4F39-86D8-C8CC872D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DF80-56BB-4B5A-ACC9-686D3597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1C16-6042-4D07-BC0B-1835905C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84DD-0EEE-48C2-B612-5DE614EC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B729-D4FE-454E-A2EE-12BACF9E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9B91-868D-4170-882E-0709636D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E5AF-7AE5-4F49-A0C1-0F55BF27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9E63-D52C-4890-9996-230B1B34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669B-32A6-4523-A780-5C511D5D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5BD4-D892-42E9-ACD6-74D54D40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F0A2-6F4D-47F2-A42E-1143BCEB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0C6C-B020-4CC4-AA26-CD72938C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AE712-AA98-464A-A6B7-95DE6D0D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1934E-AC14-4A6C-A99C-6E48C689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F72B8-9560-4DE9-877A-8BA24A65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B058-19AD-463A-B3FB-7D4EAF31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D3BFB-948B-4A16-96C8-10D194AD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FAB42-58D8-409C-B6BA-7F77F1FE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B38AA-D542-43E5-944E-D2008F29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B7C9-F037-44DF-9D10-A7299CE8B1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DD4E-45F5-4175-8D69-5E1B43635B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33120"/>
            <a:ext cx="6723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板橋区基本計画策定支援業務委託</a:t>
            </a:r>
            <a:br>
              <a:rPr sz="2800"/>
            </a:b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企画提案書</a:t>
            </a:r>
            <a:br>
              <a:rPr sz="3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メイリオ"/>
                <a:ea typeface="メイリオ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・提案書（副本）に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様式２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372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EE1F-C021-4627-A229-2F7EF9447117}" type="slidenum"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阿瀬見 有貴</cp:lastModifiedBy>
  <cp:lastPrinted>2020-01-07T04:53:42Z</cp:lastPrinted>
  <dcterms:modified xsi:type="dcterms:W3CDTF">2023-05-09T12:49:19Z</dcterms:modified>
  <cp:revision>75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