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ADBE-B6E2-4984-8176-36490ADD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2326-5AEC-47B7-8E11-10F1F5C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053A-A6B8-4482-B786-8CB92FB1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46FC-EF16-4C37-9B0A-FD2B57BC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9BD9-83C4-4DB7-9504-E5856DB3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AD5A-1BCA-4AF4-81CA-0655409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76D5-7E51-42EE-9FD0-7D4ECCA3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72F-2E7E-4503-BA03-40ACA2EA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C27E-DE13-4BD0-A9AA-3CA342A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6719-5730-490A-8E51-7E1F31E6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C7D-4A95-411E-897B-69DDA039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4321-FE55-4E37-BCEB-4BD50E5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A1F-F34C-47CB-B14D-809B8C4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47C0-58CC-442D-BE8B-6231CE2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4FB4-4812-4CFB-B43D-1DFB655E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89F9-7746-42A9-BE7C-8B1AFC77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EFA4-88B3-4C3B-B41D-A04D3B4A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BFCD-A1EB-4A4B-82D1-FD2CF538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E0FE-EDBB-4D17-8CB2-44E4FD9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1F6A-89A4-4D0A-B37A-83F35DE8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4165-37C0-49D1-8805-9819BC44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530C-81A8-4352-826E-FD3D11E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269F-C0CC-42F2-9C9C-952D4C1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A818-82E7-44A2-998F-2928BF3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4753-7AE6-446F-A8FE-160933013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ADD-691A-4D04-937F-4F2284B47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令和７年度「絵本のまちひろば」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運営委託　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B0D-2C96-4EAA-A4EE-7F26D45C1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石原 梨菜</cp:lastModifiedBy>
  <cp:lastPrinted>2019-01-07T23:26:14Z</cp:lastPrinted>
  <dcterms:modified xsi:type="dcterms:W3CDTF">2024-12-10T08:44:04Z</dcterms:modified>
  <cp:revision>6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