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717C7-2AD0-40D9-B242-0A82C005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7921-0532-498D-B238-BE62BCB6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CE06-4A53-43AD-8090-EA0F344C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F7E86-3164-433F-B0D6-4426435B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CB48-0928-4AA1-955F-C3384485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F975-3478-4173-AC11-F68DBEFF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10BC-61A0-4327-85D9-D1E0C191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D05E-1091-454A-B293-E4101A70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4788-304D-4818-8522-C08C99BB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EFB0-1644-44A6-9991-2A09B024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B8DB-E8ED-4E75-9835-C1776EC4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5484-A443-4599-BDB7-5D6646D2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D9C3-FDCD-495F-BD04-06BF5709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D9F5-7353-462F-973C-DC933D48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1478-9E12-40FB-9DF2-486B00A9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3366-6F3E-4848-B4D8-E597F2C5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F983-C395-4197-BD8E-BE01D22B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4E3B-62F0-4242-B751-B575E43C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3AF6-9A56-4287-9E2F-65A5677B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3CEF-C5B2-4AE2-968B-C51A9E2D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9EC6-B07A-4DDE-82E0-6F555DEF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519F-8A64-44E7-8123-6D597D7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D73B-8853-4B86-BDD3-73CB6A4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ED52-C953-4C99-8E30-4603F39B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91B2-1C1E-4A91-BDAC-636FD5BA4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2E61-847D-4F5C-BB45-6E066DF193E8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いたばしグリーンプラン</a:t>
            </a:r>
            <a:r>
              <a:rPr b="1" lang="en-US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35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策定</a:t>
            </a:r>
            <a:r>
              <a:rPr b="1" lang="zh-TW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業務委託</a:t>
            </a: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　企画提案書</a:t>
            </a:r>
            <a:br>
              <a:rPr sz="3000"/>
            </a:b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様式２</a:t>
            </a:r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33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FDD4-8982-4BC8-8B51-2651F281D052}" type="slidenum">
              <a:rPr b="0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3300"/>
                </a:solidFill>
                <a:latin typeface="メイリオ"/>
                <a:ea typeface="メイリオ"/>
              </a:rPr>
              <a:t>目次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42880" y="768240"/>
            <a:ext cx="8204400" cy="133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33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あいうえお・・・</a:t>
            </a:r>
            <a:r>
              <a:rPr b="0" lang="en-US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33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西村 直紘</cp:lastModifiedBy>
  <cp:lastPrinted>2020-01-07T04:53:42Z</cp:lastPrinted>
  <dcterms:modified xsi:type="dcterms:W3CDTF">2024-04-24T07:34:56Z</dcterms:modified>
  <cp:revision>78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