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497B-68C7-4B0F-B85F-88F9130D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6BE4-8FBB-4E21-9ED2-81B6A55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8998-913A-4222-818A-51099215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6017-0FF1-4B79-97FF-0D605EF9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35AB-E9AE-478E-BD38-6A209350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21AC-7458-4883-B13C-48D0EAD8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DB1B-F291-4ED0-9B7F-339FBCC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80C7-5E96-4723-818A-02B411B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21C-3CFF-43D7-ABF3-8792216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D97-9F00-4F9C-8D1A-07AB5F40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A4F9-3C2A-43CB-9FAD-8F83404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54EB-E842-4549-88FE-B457499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CCC-6D0E-460E-A9DE-BC10C34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A25-3C79-4F8D-824B-98A266A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E71-8381-4946-865E-A4A4B71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E8E2-DB99-4CD5-AEB2-ECAF75A6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A63-887F-4ACB-9F05-5C85706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7922-B9B4-4D3E-8615-E067EEF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AC12-0CBC-4727-A2B0-FED6AB4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B2CE-6A4F-4303-A513-1706472D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FFFF-A5D8-491F-B701-C8B8884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C864-4338-4026-A1C2-EF1F026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A1C2-E964-47AF-BF6C-998B76A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9325-BD01-4885-B6D5-6F186AD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DAB-7C15-472B-820C-6AF73093C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38B-4A17-4A05-86DC-512915D4E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97784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CI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マニュアル及びデザインシステム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マニュアル等改定支援業務委託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5B5-2FD3-4DC2-8EBC-5FAA5851B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石原 梨菜</cp:lastModifiedBy>
  <cp:lastPrinted>2019-01-07T23:26:14Z</cp:lastPrinted>
  <dcterms:modified xsi:type="dcterms:W3CDTF">2025-01-08T05:14:35Z</dcterms:modified>
  <cp:revision>67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