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ECB1-CC74-4E31-B4FC-8BF25FB5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7CD8-808E-4923-B233-FD46A3CC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F467-9A01-4A58-B415-9FFF8138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59F0-7EF0-4D10-B455-32D33345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5FD2-A2E6-4C94-8349-91E55275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06D3-066B-46B3-B0FB-45A0E011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5666-4331-4790-A760-7277CB80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B2F7-F37D-4994-A265-BAECB698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F0A7-B33D-44CF-A0FD-329FF70C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4B55-AB11-4363-8D65-51512F4D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6CE2-E8EA-4AD7-B700-8734FC9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A905-9A39-49C0-B283-E9FB7638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6F23-BAA7-4733-8A6C-4187C71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2FA-3063-43BE-BF3B-0ABCE75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861-65B8-44D9-8500-BCC506DB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4F79-F68D-4338-9D6D-CDC919BB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57B8-8A6E-4B08-9E03-82B096EB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FB71-4C69-4EA4-8336-66158A5F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1DEB-619C-4B64-BF78-B956EB01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BDDF-C1A1-4668-8892-7F32F3EE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D2DE-487E-4AB4-8FEF-E8E787C2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5A5D3-48A3-47B5-AC54-C4E24A4D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E03D-4EFE-408A-9CE3-AE782DA1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B8F9-9F27-4CC3-8D38-9E737354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FDF5-5328-4AF1-8569-6684D63B8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CF1-528E-400A-BC0A-84CEAA5EF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板橋区ブランド戦略策定等支援委託　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E805-3ADD-425D-8B1E-9CC20219B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安川 史章</cp:lastModifiedBy>
  <cp:lastPrinted>2019-01-07T23:26:14Z</cp:lastPrinted>
  <dcterms:modified xsi:type="dcterms:W3CDTF">2025-01-07T04:10:29Z</dcterms:modified>
  <cp:revision>67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