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EE85F-172B-4FE0-9540-B06A18222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4AE5B-5CDF-4EEE-956F-C56EEA2AB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68641-669D-4851-9787-C9460B41F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7A437-6904-4EB1-AD8B-CDF5AEF48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28BF1-C71A-4B1E-9269-178F5C17C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84539-ADFE-4995-B325-0FCCB042C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BA70C-8225-4423-8BFC-4D0B06FD1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D07CB-23A9-49D5-849F-AEF7FA650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E9EA6-B1C5-4982-B06C-DCA51764A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9F0AA-7549-4DEC-9B8F-0776BE470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05EE9-21D1-4EB0-AF99-33836861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43046-CB03-44AE-90F4-3640649C6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84836-1DF2-4145-9ED1-CCF27F7C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0F54B-D38F-4BDA-8772-D1BBBFCA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F3BB2-AFB9-4252-968E-9582A7F72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7601A-876B-4B9C-A126-DA9ADCCE2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21645-F521-4F1E-B832-980B4F235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EDBDD-DF5F-4DDD-ABEB-AF5FDFF3A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A3E41-9ED7-4591-B859-30E1E2709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5F866-C1C1-4D00-AD1B-16A066E4D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3EEB3-4FB4-4317-8EB7-11B782C5D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7280D-6368-4B37-9041-73156292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D97FF-6F0D-4AA9-BBEF-F384C14D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0E46C-965D-4380-A84A-9B0AAD41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75E5C-E684-4B08-A6DA-790584C098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70B1F-F844-42FD-8F9A-FF7EE0D94A1F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41240" y="1740960"/>
            <a:ext cx="6723000" cy="191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メイリオ"/>
                <a:ea typeface="メイリオ"/>
              </a:rPr>
              <a:t>高島平緑地（高島平九丁目地区）</a:t>
            </a:r>
            <a:br>
              <a:rPr sz="3000"/>
            </a:br>
            <a:r>
              <a:rPr b="0" lang="ja-JP" sz="3000" spc="-1" strike="noStrike">
                <a:solidFill>
                  <a:srgbClr val="ffffff"/>
                </a:solidFill>
                <a:latin typeface="メイリオ"/>
                <a:ea typeface="メイリオ"/>
              </a:rPr>
              <a:t>再整備基本計画策定支援業務委託　</a:t>
            </a:r>
            <a:br>
              <a:rPr sz="3000"/>
            </a:b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563640" y="3789000"/>
            <a:ext cx="5327640" cy="3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ffffff"/>
                </a:solidFill>
                <a:latin typeface="メイリオ"/>
                <a:ea typeface="メイリオ"/>
              </a:rPr>
              <a:t>令和　　　年　　月　　日</a:t>
            </a:r>
            <a:endParaRPr b="0" lang="en-US" sz="17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2556000" y="4292640"/>
            <a:ext cx="576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00"/>
                </a:solidFill>
                <a:latin typeface="メイリオ"/>
                <a:ea typeface="メイリオ"/>
              </a:rPr>
              <a:t>【</a:t>
            </a:r>
            <a:r>
              <a:rPr b="1" lang="ja-JP" sz="1200" spc="-1" strike="noStrike">
                <a:solidFill>
                  <a:srgbClr val="003300"/>
                </a:solidFill>
                <a:latin typeface="メイリオ"/>
                <a:ea typeface="メイリオ"/>
              </a:rPr>
              <a:t>留意事項</a:t>
            </a:r>
            <a:r>
              <a:rPr b="1" lang="en-US" sz="1200" spc="-1" strike="noStrike">
                <a:solidFill>
                  <a:srgbClr val="003300"/>
                </a:solidFill>
                <a:latin typeface="メイリオ"/>
                <a:ea typeface="メイリオ"/>
              </a:rPr>
              <a:t>】</a:t>
            </a:r>
            <a:endParaRPr b="1" lang="en-US" sz="12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3300"/>
                </a:solidFill>
                <a:latin typeface="メイリオ"/>
                <a:ea typeface="メイリオ"/>
              </a:rPr>
              <a:t>・副本には社名・ロゴ等を記載しないこと。</a:t>
            </a:r>
            <a:endParaRPr b="1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7667640" y="620640"/>
            <a:ext cx="1295280" cy="914400"/>
          </a:xfrm>
          <a:prstGeom prst="rect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7885080" y="18900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3300"/>
                </a:solidFill>
                <a:latin typeface="UDゴシック"/>
              </a:rPr>
              <a:t>様式２</a:t>
            </a:r>
            <a:endParaRPr b="1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8524800" y="950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3300"/>
                </a:solidFill>
                <a:latin typeface="メイリオ"/>
                <a:ea typeface="メイリオ"/>
              </a:rPr>
              <a:t>者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2541600" y="2625840"/>
            <a:ext cx="6723000" cy="20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メイリオ"/>
                <a:ea typeface="メイリオ"/>
              </a:rPr>
              <a:t>ー企画提案書ー</a:t>
            </a:r>
            <a:br>
              <a:rPr sz="3000"/>
            </a:br>
            <a:endParaRPr b="1" lang="en-US" sz="3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3300"/>
                </a:solidFill>
                <a:latin typeface="Arial"/>
                <a:ea typeface="HGPｺﾞｼｯｸE"/>
              </a:rPr>
              <a:t>目次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14" name="Picture 4" descr="BD15034_"/>
          <p:cNvPicPr/>
          <p:nvPr/>
        </p:nvPicPr>
        <p:blipFill>
          <a:blip r:embed="rId1"/>
          <a:stretch/>
        </p:blipFill>
        <p:spPr>
          <a:xfrm>
            <a:off x="539640" y="765000"/>
            <a:ext cx="8209080" cy="1368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362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3300"/>
                </a:solidFill>
                <a:latin typeface="メイリオ"/>
                <a:ea typeface="メイリオ"/>
              </a:rPr>
              <a:t>　あいうえお・・・</a:t>
            </a:r>
            <a:r>
              <a:rPr b="0" lang="en-US" sz="1200" spc="-1" strike="noStrike">
                <a:solidFill>
                  <a:srgbClr val="003300"/>
                </a:solidFill>
                <a:latin typeface="メイリオ"/>
                <a:ea typeface="メイリオ"/>
              </a:rPr>
              <a:t>12</a:t>
            </a:r>
            <a:r>
              <a:rPr b="0" lang="ja-JP" sz="1200" spc="-1" strike="noStrike">
                <a:solidFill>
                  <a:srgbClr val="003300"/>
                </a:solidFill>
                <a:latin typeface="メイリオ"/>
                <a:ea typeface="メイリオ"/>
              </a:rPr>
              <a:t>ポイント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3300"/>
                </a:solidFill>
                <a:latin typeface="メイリオ"/>
                <a:ea typeface="メイリオ"/>
              </a:rPr>
              <a:t>以下の順番で提案書を作成してください。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3300"/>
                </a:solidFill>
                <a:latin typeface="メイリオ"/>
                <a:ea typeface="メイリオ"/>
              </a:rPr>
              <a:t>（１）　業務実施体制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3300"/>
                </a:solidFill>
                <a:latin typeface="メイリオ"/>
                <a:ea typeface="メイリオ"/>
              </a:rPr>
              <a:t>（２）　工程計画等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3300"/>
                </a:solidFill>
                <a:latin typeface="メイリオ"/>
                <a:ea typeface="メイリオ"/>
              </a:rPr>
              <a:t>（３）　技術提案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3300"/>
                </a:solidFill>
                <a:latin typeface="メイリオ"/>
                <a:ea typeface="メイリオ"/>
              </a:rPr>
              <a:t>　　　　ア）「地元ヒアリング」に関する提案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3300"/>
                </a:solidFill>
                <a:latin typeface="メイリオ"/>
                <a:ea typeface="メイリオ"/>
              </a:rPr>
              <a:t>　　　　イ）「社会実験」に関する提案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3300"/>
                </a:solidFill>
                <a:latin typeface="メイリオ"/>
                <a:ea typeface="メイリオ"/>
              </a:rPr>
              <a:t>　　　　ウ）「トライアルサウンディング」に関する提案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3300"/>
                </a:solidFill>
                <a:latin typeface="メイリオ"/>
                <a:ea typeface="メイリオ"/>
              </a:rPr>
              <a:t>　　　　エ）「社会実験及びトライアルサウンディング実施のための基盤整備」に関する提案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3300"/>
                </a:solidFill>
                <a:latin typeface="メイリオ"/>
                <a:ea typeface="メイリオ"/>
              </a:rPr>
              <a:t>　　　　オ）「適正な植栽監理のあり方」に関する提案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3300"/>
                </a:solidFill>
                <a:latin typeface="メイリオ"/>
                <a:ea typeface="メイリオ"/>
              </a:rPr>
              <a:t>　　　　カ）「公民連携事業のための民間事業者への市場調査」及び「公民連携事業導入範囲及びスキームの検討」に　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3300"/>
                </a:solidFill>
                <a:latin typeface="メイリオ"/>
                <a:ea typeface="メイリオ"/>
              </a:rPr>
              <a:t>　　　　　　関する提案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3300"/>
                </a:solidFill>
                <a:latin typeface="メイリオ"/>
                <a:ea typeface="メイリオ"/>
              </a:rPr>
              <a:t>（４）　見積書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2:00:28Z</dcterms:created>
  <dc:creator>板橋区</dc:creator>
  <dc:description/>
  <dc:language>en-US</dc:language>
  <cp:lastModifiedBy>吉井 香南</cp:lastModifiedBy>
  <cp:lastPrinted>2019-01-07T23:26:14Z</cp:lastPrinted>
  <dcterms:modified xsi:type="dcterms:W3CDTF">2025-07-31T02:40:38Z</dcterms:modified>
  <cp:revision>78</cp:revision>
  <dc:subject/>
  <dc:title>板橋区気象観測システム 賃貸借事業提案書 ー 詳細版 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カテゴリ">
    <vt:lpwstr>全体</vt:lpwstr>
  </property>
  <property fmtid="{D5CDD505-2E9C-101B-9397-08002B2CF9AE}" pid="3" name="有効期限">
    <vt:lpwstr/>
  </property>
  <property fmtid="{D5CDD505-2E9C-101B-9397-08002B2CF9AE}" pid="4" name="重要度">
    <vt:lpwstr>中</vt:lpwstr>
  </property>
</Properties>
</file>